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5CC-66DE-4C33-A34B-9A2C80AA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BE0-F1FD-4AB8-AC98-75E70B8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2D6-9C5C-4A5C-BA69-9AC73879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49FE-AA11-44AF-A9FE-1C2F809E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0E33-5814-4084-8EC6-016401C4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AB2-73C5-4B10-A641-FE8F0E5F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92E5-03AC-4CE6-85F4-595D892F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A3A-815F-4EB6-8E85-B1D711F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ACF-7DA3-4D75-AF8A-20E8174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C7C-9C6F-4344-8DD4-0CEE6E72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2BA-0979-4DF3-84A4-71CFFAF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071F-D8FE-49E1-9B2C-773FB32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23D7-5E42-424A-8E38-07937828F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izing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mmunity opera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d not ha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fficient revenue to p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aviata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s perennial favo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board me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to raise money for the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sag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are surprised to learn that the id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flying machine stretches all the way back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ent Greece. Archimedes, who identified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 of buoyancy more than 2,000 years ag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 )may also have conceived of a flying machine u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principle.  Throughout the years, other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hilosophers, Roger Bacon and Alber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us among them, advanced designs for fl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s based on buoyancy. It wasn’t until 1783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) however, that the principle was tested. In the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er of that year Joseph and Ettien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golfier built a hot air balloon propelled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re-and-straw fire that safely held aloft a t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arm animals for eight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sage implies that the principle of buoy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rchimedes’ main contribution to sc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vented by the Montgolfier br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mportant for the functioning of hot air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unded both Roger Bacon and Albertus Mag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first fully understood in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line 8, the word “advanced” most nearly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mp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43434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419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e of the 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 types of injury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ball playe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stain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dis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houlder, an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occu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arly 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qu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                          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strained hamstring.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i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ifferences, the novelist’s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er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ing sty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 port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                 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political situation in comple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fferent 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eason the Raiders football games are mostly losses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t those that do fe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iderable athletic perform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ose that do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do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at doe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fea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that does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f the stud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udied relentless for pa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est necessary to earn an A in the cou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 fo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to pass relentles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ly for pa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ied relentlessly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olinist was overly excited at the beginning of the concert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ving shown admirable calm once the violin sonata 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shown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showed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howing admirable calm once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he showed admirable calm when the violin sonata g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he showed admirable calm when the violin sonata had 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rease in available space has made it possible for our library to be entertain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 well as educ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ing educationa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ducate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well as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ough there was much curiosity about their personal lives, the celebrities of earlier times were able to maintain a degree of - - - that today’s celebrities - - -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..en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nity..reg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ce..mi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ion..m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..celebrat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in the most informal settings, Mrs. Davis always had the instinct to - - - and could not resist the urge to spread knowledge among her acquain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30:52Z</dcterms:created>
  <dc:creator>ASD</dc:creator>
  <dc:description/>
  <dc:language>en-US</dc:language>
  <cp:lastModifiedBy>ASD</cp:lastModifiedBy>
  <dcterms:modified xsi:type="dcterms:W3CDTF">2010-09-14T14:45:21Z</dcterms:modified>
  <cp:revision>3</cp:revision>
  <dc:subject/>
  <dc:title>Question #1</dc:title>
</cp:coreProperties>
</file>